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D13-8B24-4428-A335-43BE6300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DAC-80E7-47DA-AFE2-75753923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E52-E949-4A2D-B449-F99123CC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F6F-E299-4D55-93E8-0FDAD8DB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E2C-6CA4-4018-A049-4C026553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40C-32A4-43BA-8FAC-9360E141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CC3C-7CA4-4A12-8358-5C7E86C9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39D7-A741-407E-A4A0-192070F0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E749-15EF-4BDA-9E6C-4E1B7B87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DF8-0EA5-460C-A66D-0F0742BA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AD76-F753-4947-BF3B-24B1AFEE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DE86-19DF-4ED8-8D16-85E46DCE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0C86-7319-4BC6-A68B-9C229C8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B9D6-76B0-42D2-893A-1C36195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1C12-0942-4959-862C-A9A5BFA2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65AE-D561-4A1B-AB8F-8245C91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8BF4-7017-4B18-B481-F5A80FA7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B06C-EE7B-4E6B-80A3-4FF492B9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B509-114E-4643-BB00-1F933FB3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DC2-A323-41EE-82BD-FA27D47A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2E9-98E9-40FA-8C22-7CCC90FA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A13-28E8-446C-BAD3-395830E5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F59-C4C0-4DD5-8C71-32B36DB5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2A4-E8E1-476F-A18C-8A898A7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17C1-E61E-4753-8835-EEAFE989A0A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7CC4-0A4F-4AB6-AD11-76ACEE78DD3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 rot="574800">
            <a:off x="5109840" y="1353600"/>
            <a:ext cx="3730680" cy="3957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4574880" cy="4357800"/>
          </a:xfrm>
          <a:prstGeom prst="rect">
            <a:avLst/>
          </a:prstGeom>
          <a:ln w="0">
            <a:noFill/>
          </a:ln>
        </p:spPr>
      </p:pic>
      <p:sp>
        <p:nvSpPr>
          <p:cNvPr id="158" name="4 CuadroTexto"/>
          <p:cNvSpPr/>
          <p:nvPr/>
        </p:nvSpPr>
        <p:spPr>
          <a:xfrm>
            <a:off x="574560" y="178596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Taller de formación  presencial de  formadoras en tecnologías Web 2.0. y herramientas ofimáticas para procesos de enseñanza aprendizaje”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9 Rectángulo"/>
          <p:cNvSpPr/>
          <p:nvPr/>
        </p:nvSpPr>
        <p:spPr>
          <a:xfrm>
            <a:off x="431640" y="4148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1859c"/>
                </a:solidFill>
                <a:latin typeface="Calibri"/>
              </a:rPr>
              <a:t>JUAN H. ALVAREZ SANTOYO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1859c"/>
                </a:solidFill>
                <a:latin typeface="Calibri"/>
              </a:rPr>
              <a:t>ENERO 2 – 6 201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0" name="6 Imagen" descr="PORTADA.png"/>
          <p:cNvPicPr/>
          <p:nvPr/>
        </p:nvPicPr>
        <p:blipFill>
          <a:blip r:embed="rId3"/>
          <a:stretch/>
        </p:blipFill>
        <p:spPr>
          <a:xfrm>
            <a:off x="5214960" y="1428840"/>
            <a:ext cx="36180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01" name="7 Imagen" descr="marketing.png"/>
          <p:cNvPicPr/>
          <p:nvPr/>
        </p:nvPicPr>
        <p:blipFill>
          <a:blip r:embed="rId2"/>
          <a:stretch/>
        </p:blipFill>
        <p:spPr>
          <a:xfrm>
            <a:off x="3348000" y="3619440"/>
            <a:ext cx="2795760" cy="2095560"/>
          </a:xfrm>
          <a:prstGeom prst="rect">
            <a:avLst/>
          </a:prstGeom>
          <a:ln w="0">
            <a:noFill/>
          </a:ln>
        </p:spPr>
      </p:pic>
      <p:sp>
        <p:nvSpPr>
          <p:cNvPr id="202" name="2 Marcador de contenido"/>
          <p:cNvSpPr/>
          <p:nvPr/>
        </p:nvSpPr>
        <p:spPr>
          <a:xfrm>
            <a:off x="1219320" y="1600200"/>
            <a:ext cx="6881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Taller de Formación presencial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Se estructura en  40 horas,  que se desarrollarán en  proceso evolutivo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Sensibilización en torno a la incorporación de TIC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Desarrollo de ejercicio prácticos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Proyecto individual de construcción de un escenario formativo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  <a:ea typeface="Arial"/>
              </a:rPr>
              <a:t>Socialización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3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04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METODOLOGÍ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06" name="6 Imagen" descr="shutterstock_29598490.png"/>
          <p:cNvPicPr/>
          <p:nvPr/>
        </p:nvPicPr>
        <p:blipFill>
          <a:blip r:embed="rId2"/>
          <a:stretch/>
        </p:blipFill>
        <p:spPr>
          <a:xfrm>
            <a:off x="1714680" y="1689120"/>
            <a:ext cx="5715000" cy="4311720"/>
          </a:xfrm>
          <a:prstGeom prst="rect">
            <a:avLst/>
          </a:prstGeom>
          <a:ln w="0">
            <a:noFill/>
          </a:ln>
        </p:spPr>
      </p:pic>
      <p:sp>
        <p:nvSpPr>
          <p:cNvPr id="207" name="2 Marcador de contenido"/>
          <p:cNvSpPr/>
          <p:nvPr/>
        </p:nvSpPr>
        <p:spPr>
          <a:xfrm>
            <a:off x="1219320" y="1600200"/>
            <a:ext cx="6881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558ed5"/>
                </a:solidFill>
                <a:latin typeface="Calibri"/>
              </a:rPr>
              <a:t>Durante las etapas se realizarán diversas actividades para fines de seguimiento, evaluación y certific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8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09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METODOLOGÍ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11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12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PLAN DE TRABAJO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014480" y="1397160"/>
          <a:ext cx="7200720" cy="4570200"/>
        </p:xfrm>
        <a:graphic>
          <a:graphicData uri="http://schemas.openxmlformats.org/drawingml/2006/table">
            <a:tbl>
              <a:tblPr/>
              <a:tblGrid>
                <a:gridCol w="861840"/>
                <a:gridCol w="2044800"/>
                <a:gridCol w="2770200"/>
                <a:gridCol w="623880"/>
                <a:gridCol w="900000"/>
              </a:tblGrid>
              <a:tr h="78120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í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em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ubtem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iemp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odalidad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30000">
                <a:tc rowSpan="5"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31859c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nsibilización sobre el uso de las TIC como apoyo a los procesos de educación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exto de la  incorporación de Tecnología en procesos de educación presencial.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sencia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o Pedagógico de las TIC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rramientas para el trabajo colaborativ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ogle Doc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ki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eb Quest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6"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31859c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rramientas para el manejo de la imagen en la web 2.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écnicas de animación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hor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sencial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uión de video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hor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tografí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eación de Películas 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outube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hor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icker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hora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4"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rramientas para la comunicación en la web 2.0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reaker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dio foro (Voxopop)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sent me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uvox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5 Imagen" descr="fondo_texto.png"/>
          <p:cNvPicPr/>
          <p:nvPr/>
        </p:nvPicPr>
        <p:blipFill>
          <a:blip r:embed="rId1"/>
          <a:stretch/>
        </p:blipFill>
        <p:spPr>
          <a:xfrm>
            <a:off x="928800" y="1351080"/>
            <a:ext cx="7137360" cy="5506920"/>
          </a:xfrm>
          <a:prstGeom prst="rect">
            <a:avLst/>
          </a:prstGeom>
          <a:ln w="0">
            <a:noFill/>
          </a:ln>
        </p:spPr>
      </p:pic>
      <p:pic>
        <p:nvPicPr>
          <p:cNvPr id="215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16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PLAN DE TRABAJO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85840" y="2500200"/>
          <a:ext cx="6672240" cy="2565360"/>
        </p:xfrm>
        <a:graphic>
          <a:graphicData uri="http://schemas.openxmlformats.org/drawingml/2006/table">
            <a:tbl>
              <a:tblPr/>
              <a:tblGrid>
                <a:gridCol w="679320"/>
                <a:gridCol w="1233720"/>
                <a:gridCol w="3333600"/>
                <a:gridCol w="739800"/>
                <a:gridCol w="685800"/>
              </a:tblGrid>
              <a:tr h="306360"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Etapa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em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ubtem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iempo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Modalidad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204840">
                <a:tc rowSpan="5"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rramientas de presentación y evaluación en la web 2.0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 toast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sencial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miento en la nube (dropbox)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zi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t potatoe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tream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3">
                  <a:txBody>
                    <a:bodyPr lIns="12600" rIns="12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o educativo de herramientas multimediale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eb Quest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yecto Individual: diseño de un escenario formativo con TIC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ialización del proyecto elaborado por cada participante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ras</a:t>
                      </a:r>
                      <a:endPara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19" name="10 Imagen" descr="cloud_medium1.jpg"/>
          <p:cNvPicPr/>
          <p:nvPr/>
        </p:nvPicPr>
        <p:blipFill>
          <a:blip r:embed="rId2"/>
          <a:stretch/>
        </p:blipFill>
        <p:spPr>
          <a:xfrm>
            <a:off x="3857760" y="1643040"/>
            <a:ext cx="4074840" cy="4071960"/>
          </a:xfrm>
          <a:prstGeom prst="rect">
            <a:avLst/>
          </a:prstGeom>
          <a:ln w="0">
            <a:noFill/>
          </a:ln>
        </p:spPr>
      </p:pic>
      <p:pic>
        <p:nvPicPr>
          <p:cNvPr id="220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21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¡Para tener en cuenta!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6 Rectángulo"/>
          <p:cNvSpPr/>
          <p:nvPr/>
        </p:nvSpPr>
        <p:spPr>
          <a:xfrm>
            <a:off x="1143000" y="3143160"/>
            <a:ext cx="264312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58ed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álogo y construcción colectiva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58ed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58ed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álisis y reflexión a partir de las situaciones típicas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558ed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9 Rectángulo"/>
          <p:cNvSpPr/>
          <p:nvPr/>
        </p:nvSpPr>
        <p:spPr>
          <a:xfrm>
            <a:off x="1143000" y="157644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58ed5"/>
                </a:solidFill>
                <a:latin typeface="Calibri"/>
              </a:rPr>
              <a:t>La jornada de trabajo se ha  estructurado a partir de una estrategia metodológica caracterizada por los siguientes principios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225" name="7 Imagen" descr="tic3.png"/>
          <p:cNvPicPr/>
          <p:nvPr/>
        </p:nvPicPr>
        <p:blipFill>
          <a:blip r:embed="rId2"/>
          <a:stretch/>
        </p:blipFill>
        <p:spPr>
          <a:xfrm>
            <a:off x="2643120" y="2220840"/>
            <a:ext cx="4216320" cy="3591000"/>
          </a:xfrm>
          <a:prstGeom prst="rect">
            <a:avLst/>
          </a:prstGeom>
          <a:ln w="0">
            <a:noFill/>
          </a:ln>
        </p:spPr>
      </p:pic>
      <p:pic>
        <p:nvPicPr>
          <p:cNvPr id="226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227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¡Para tener en cuenta!</a:t>
            </a:r>
            <a:r>
              <a:rPr b="0" lang="es-ES" sz="36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1071720" y="17164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58ed5"/>
                </a:solidFill>
                <a:latin typeface="Calibri"/>
                <a:ea typeface="Calibri"/>
              </a:rPr>
              <a:t>Para el desarrollo del proceso se requiere el rol del participante como actor copartícipe del proceso de trabajo.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62" name="5 Imagen" descr="shutterstock_295dd98490.png"/>
          <p:cNvPicPr/>
          <p:nvPr/>
        </p:nvPicPr>
        <p:blipFill>
          <a:blip r:embed="rId2"/>
          <a:stretch/>
        </p:blipFill>
        <p:spPr>
          <a:xfrm>
            <a:off x="4516560" y="2492280"/>
            <a:ext cx="3606840" cy="2722680"/>
          </a:xfrm>
          <a:prstGeom prst="rect">
            <a:avLst/>
          </a:prstGeom>
          <a:ln w="0">
            <a:noFill/>
          </a:ln>
        </p:spPr>
      </p:pic>
      <p:pic>
        <p:nvPicPr>
          <p:cNvPr id="163" name="4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080" y="571320"/>
            <a:ext cx="6757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OBJE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71360" y="2017440"/>
            <a:ext cx="35002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Ofrecer e implementar el Taller de Formación presencial de formadoras en tecnologías Web 2.0 y herramientas ofimáticas para procesos de enseñanza-aprendizaje, dirigido a las hermanas de la Congregación de Santa Catalina de Sena, con el fin de ampliar y fortalecer su comprensión y aplicación educativas de recursos web 2.0 y herramientas ofimá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042920" y="2855520"/>
            <a:ext cx="35006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iseñen un escenario formativo con TIC, específicamente integrando herramientas ofimáticas y recursos de la web 2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080" y="571320"/>
            <a:ext cx="6757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ALC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43000" y="228960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  <a:ea typeface="Calibri"/>
              </a:rPr>
              <a:t>Esta capacitación permitirá que las hermanas de la congregación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1" name="7 Imagen" descr="shutterstock_295DS98490.png"/>
          <p:cNvPicPr/>
          <p:nvPr/>
        </p:nvPicPr>
        <p:blipFill>
          <a:blip r:embed="rId3"/>
          <a:stretch/>
        </p:blipFill>
        <p:spPr>
          <a:xfrm>
            <a:off x="4632480" y="1569960"/>
            <a:ext cx="33685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73" name="7 Imagen" descr="shutterstock_2959849022.png"/>
          <p:cNvPicPr/>
          <p:nvPr/>
        </p:nvPicPr>
        <p:blipFill>
          <a:blip r:embed="rId2"/>
          <a:stretch/>
        </p:blipFill>
        <p:spPr>
          <a:xfrm>
            <a:off x="4071960" y="242892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74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75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1214280" y="2428920"/>
            <a:ext cx="3025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ompetencia Pedagógica:</a:t>
            </a: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mprender  el uso pedagógico de las TIC: Tecnologías web 2.0 y herramientas ofimáticas para su aplicación en el diseño de escenarios formativos innovadores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78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79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1285920" y="2143080"/>
            <a:ext cx="655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riterios de evaluación</a:t>
            </a:r>
            <a:r>
              <a:rPr b="0" lang="es-CO" sz="2000" spc="-1" strike="noStrike">
                <a:solidFill>
                  <a:srgbClr val="4f81bd"/>
                </a:solidFill>
                <a:latin typeface="Calibri"/>
              </a:rPr>
              <a:t>:</a:t>
            </a:r>
            <a:r>
              <a:rPr b="0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 las problemáticas educativas en los proceso de capacitación para lo vocacional, y las oportunidades que las TIC brindan para atenderlas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valúa con criterios pedagógicos, tecnológicos, éticos y estéticos predefinidos, las posibilidades de uso educativo que ofrecen las TIC  para apoyar el mejoramiento en sus procesos de capacitación para lo vocacional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82" name="2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83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2 Marcador de contenido"/>
          <p:cNvSpPr/>
          <p:nvPr/>
        </p:nvSpPr>
        <p:spPr>
          <a:xfrm>
            <a:off x="1214280" y="2143080"/>
            <a:ext cx="68580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ompetencia Técnica y tecnológica:</a:t>
            </a: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215968"/>
                </a:solidFill>
                <a:latin typeface="Calibri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plicar conceptos y funciones básicas que permitan usar TIC (Tecnologías web 2.0 y/o herramientas ofimáticas) con sentido pedagógico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riterios de evaluación</a:t>
            </a:r>
            <a:r>
              <a:rPr b="0" lang="es-CO" sz="2000" spc="-1" strike="noStrike">
                <a:solidFill>
                  <a:srgbClr val="4f81bd"/>
                </a:solidFill>
                <a:latin typeface="Calibri"/>
              </a:rPr>
              <a:t>: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Selecciona actividades y recursos educativos que integran las TIC, de acuerdo a su calidad y pertinencia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86" name="5 Imagen" descr="shutterstock_295984902.png"/>
          <p:cNvPicPr/>
          <p:nvPr/>
        </p:nvPicPr>
        <p:blipFill>
          <a:blip r:embed="rId2"/>
          <a:stretch/>
        </p:blipFill>
        <p:spPr>
          <a:xfrm>
            <a:off x="2627280" y="2793960"/>
            <a:ext cx="4159440" cy="3137040"/>
          </a:xfrm>
          <a:prstGeom prst="rect">
            <a:avLst/>
          </a:prstGeom>
          <a:ln w="0">
            <a:noFill/>
          </a:ln>
        </p:spPr>
      </p:pic>
      <p:sp>
        <p:nvSpPr>
          <p:cNvPr id="187" name="2 Marcador de contenido"/>
          <p:cNvSpPr/>
          <p:nvPr/>
        </p:nvSpPr>
        <p:spPr>
          <a:xfrm>
            <a:off x="1219320" y="1857240"/>
            <a:ext cx="67053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ompetencia Comunicativa y colaborativa: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nocer las oportunidades que brindan las TIC para desarrollar estrategias de trabajo colaborativo en procesos de capacitación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8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89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91" name="6 Imagen" descr="shutterstock_295984903.png"/>
          <p:cNvPicPr/>
          <p:nvPr/>
        </p:nvPicPr>
        <p:blipFill>
          <a:blip r:embed="rId2"/>
          <a:stretch/>
        </p:blipFill>
        <p:spPr>
          <a:xfrm>
            <a:off x="3059280" y="3560760"/>
            <a:ext cx="3084480" cy="2327400"/>
          </a:xfrm>
          <a:prstGeom prst="rect">
            <a:avLst/>
          </a:prstGeom>
          <a:ln w="0">
            <a:noFill/>
          </a:ln>
        </p:spPr>
      </p:pic>
      <p:sp>
        <p:nvSpPr>
          <p:cNvPr id="192" name="2 Marcador de contenido"/>
          <p:cNvSpPr/>
          <p:nvPr/>
        </p:nvSpPr>
        <p:spPr>
          <a:xfrm>
            <a:off x="1116000" y="1628640"/>
            <a:ext cx="6521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riterios de evaluación: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omueve comunicaciones efectivas que aporten a los procesos de capacitación para lo vocacional mediante el uso de TIC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laciona tecnologías web 2.0 y herramientas ofimáticas con acciones formativas que propenden por el aprendizaje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3" name="3 Imagen" descr="titulos.png"/>
          <p:cNvPicPr/>
          <p:nvPr/>
        </p:nvPicPr>
        <p:blipFill>
          <a:blip r:embed="rId3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94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5 Imagen" descr="fondo_texto.png"/>
          <p:cNvPicPr/>
          <p:nvPr/>
        </p:nvPicPr>
        <p:blipFill>
          <a:blip r:embed="rId1"/>
          <a:stretch/>
        </p:blipFill>
        <p:spPr>
          <a:xfrm>
            <a:off x="1000080" y="993600"/>
            <a:ext cx="7137360" cy="5507280"/>
          </a:xfrm>
          <a:prstGeom prst="rect">
            <a:avLst/>
          </a:prstGeom>
          <a:ln w="0">
            <a:noFill/>
          </a:ln>
        </p:spPr>
      </p:pic>
      <p:pic>
        <p:nvPicPr>
          <p:cNvPr id="196" name="3 Imagen" descr="titulos.png"/>
          <p:cNvPicPr/>
          <p:nvPr/>
        </p:nvPicPr>
        <p:blipFill>
          <a:blip r:embed="rId2"/>
          <a:stretch/>
        </p:blipFill>
        <p:spPr>
          <a:xfrm>
            <a:off x="0" y="500040"/>
            <a:ext cx="6000840" cy="79704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100080" y="571680"/>
            <a:ext cx="6757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COMPETENCI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1187280" y="2428920"/>
            <a:ext cx="3313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4f81bd"/>
                </a:solidFill>
                <a:latin typeface="Calibri"/>
              </a:rPr>
              <a:t>Competencia  Ética: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Comprende las implicaciones, oportunidades y riesgos de la utilización de TIC en los proceso de capacitación para lo vocacional y desarrollo humano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9" name="6 Imagen" descr="shutterstock_SDSF29598490.png"/>
          <p:cNvPicPr/>
          <p:nvPr/>
        </p:nvPicPr>
        <p:blipFill>
          <a:blip r:embed="rId3"/>
          <a:stretch/>
        </p:blipFill>
        <p:spPr>
          <a:xfrm>
            <a:off x="4659480" y="1714680"/>
            <a:ext cx="3198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1:42:43Z</dcterms:created>
  <dc:creator>multimedios</dc:creator>
  <dc:description/>
  <dc:language>en-US</dc:language>
  <cp:lastModifiedBy>Juan H</cp:lastModifiedBy>
  <dcterms:modified xsi:type="dcterms:W3CDTF">2012-01-02T02:54:41Z</dcterms:modified>
  <cp:revision>43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A68F0790-75D2-4F71-9B1B-6D1211B524C6</vt:lpwstr>
  </property>
  <property fmtid="{D5CDD505-2E9C-101B-9397-08002B2CF9AE}" pid="3" name="ArticulatePath">
    <vt:lpwstr>1 PRESENTACION_EQUIPO1</vt:lpwstr>
  </property>
  <property fmtid="{D5CDD505-2E9C-101B-9397-08002B2CF9AE}" pid="4" name="ArticulateProjectFull">
    <vt:lpwstr>C:\Documents and Settings\mcamargo\Escritorio\1 PRESENTACION_EQUIPO2.ppta</vt:lpwstr>
  </property>
  <property fmtid="{D5CDD505-2E9C-101B-9397-08002B2CF9AE}" pid="5" name="ArticulateUseProject">
    <vt:lpwstr>1</vt:lpwstr>
  </property>
</Properties>
</file>